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10.png" ContentType="image/png"/>
  <Override PartName="/ppt/media/image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A21D905-3904-4A21-91D8-85FD41C168F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1DFBC77-C9A8-447D-9CCB-95B60008DA8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09E0233-3F6A-43BA-8AE9-D26752EE5AA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A0D-5DEA-42AF-89A3-5BBC6B3C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C94B-CD2E-4149-A383-07E579B4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8CEF82-09BC-4C00-A68C-98CF6D5495A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D4BF02-5231-40FE-994A-EEDCA5E9C91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86FBDA-59E9-4215-BB42-2E2C8F1344D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8FD934-8C1A-426B-9495-DABC0A1C64A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23D47E-7ED6-4505-A3FA-100A0F68793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D50CAA-FF72-4964-B5D1-2A5D29D99D4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972143-8F6F-4D7F-A719-2FF0BD4D153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BC0FCB-BD2D-4729-81B3-B85A6BC171E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09DD42-69E8-48EE-86BD-3AE571AB9D3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BFCA7D-FDC7-4EDD-BC64-A4A95729B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6A1B-0193-4E00-B280-79751F54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870A1C-2B5F-4FD0-BBCF-4D721E9077B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E4E78B-00DC-4B27-AA6C-BCF2ACD5131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77A144-926F-42CC-8082-B107D537CC3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7DC065-2BC0-460A-A633-45594C0334B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76CD29-71D4-4C7A-9627-206A8039433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EF6446-DAC2-4947-8767-976DC71F362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25DFAF-AB1B-40A4-9674-4F528343754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852444-FA7F-4F74-82A1-DEB2587B5EA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3F8F2C-0FF7-49E0-BC19-0B67B96DA29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3BA89D-C439-4C13-8E8A-0A967ED28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EFC-0E6A-4F51-B3EB-43570B44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291A21-DED5-48DB-B2B4-7632ED6CAEA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1D357-0663-40BA-9371-582C86988B7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1DF6A-D43F-4BA2-AF70-7F8B2F5EEB6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F1753-A116-48F0-A712-D7FBFCD0F63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B2B96-413F-46A7-8D1C-D8599E0A385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1D8A5-2511-4451-AE4A-C12A4BA3BBD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1CAFE-9009-427F-AC38-FA3E40D292E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D7E7A-62DD-4A94-96BF-C02065444C5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E2C57-4BD0-4DF8-B361-236D871CD9A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83039-6E0E-472D-A574-024ABBD96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5A946-D9DF-4CFC-BC0C-A17134CF5DD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5F035-D75F-4DA8-A117-A1D13C8C4EC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C29F2-E1CC-430E-A34B-2037BDFB620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449394-0A3A-4D74-BD90-2A2E735BC49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702981-B1B1-4DD6-B329-843AE177B91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15CAFC-5A71-4737-BA61-097105836AF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76E4A6-C355-4839-8BF3-9CAE4B05C5A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83B34F-B9F6-449D-9150-38798AC61C2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F47DA9-C030-489E-B806-735AA3EFADA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70DA0F-AACB-4C4B-8305-592D6E7EE8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BCDE44-4C25-4C06-91D1-97FDF4E91E9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5CE5F1-0800-4EFE-93A9-505F7449E4C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24DBD2-F897-4614-9624-7967A9277FE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735980-F62E-4422-8295-0D0D47E3FC0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FF5331-6F76-4366-9AD6-1D7FEA5B144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BF6C3-8B89-493A-A585-523E7B022DF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99B53F-2D9E-422F-A413-6CE2A9DF925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952FE-7442-47FA-A87C-8EC12C11292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F27AEF-61EE-4B7A-B560-2EC19631213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421D1-7019-4BB7-9E78-AD9E27D109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BC2468-73C0-44B4-AFF2-B72B6B2FD26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76978F-AD4C-4BD5-9206-33637D64360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74A7E-917D-471D-A419-E46D875DE79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F12765-59C8-4A74-ADEE-BEBBC8B48A1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099E5-7F84-4B34-9A0F-BA304C9FB02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D9DD9B-1BB7-4A1E-9451-D28C6A6CF93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491DA-455C-4EC4-B3BB-58159780FB5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4A66A-9424-409F-BE4C-52C66D9B7A2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EA320-5A7D-4603-94DB-CDEDA8D35E1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ECE93-7C52-4179-8987-4084D446E0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809D0-0412-45B5-912B-BCF91E4024B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9F572-B369-418D-ADCD-DF6932F2584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88196-2E12-4E3A-9C76-FC1CDD00F1C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CFA77-C292-4E79-84F3-DCA49E119A5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C8206-EF5E-4B21-96EB-AFF650342AD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5AF0A-4F8C-46F7-9554-DD3F46C3323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6C732-A958-4E7E-8208-AFDAFEA9A92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7F8CA-5783-4966-B35B-B79987D6459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9A2D7-F7AF-4FC8-BD15-2468103E460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4A7AF5-C9C7-4B5A-9539-0B42358FB0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D829EB-23C8-419F-9DF1-D0BF24034E3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ADC2EF-659E-4053-90DB-54DEDEA2118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AB95B5-5142-4AB1-8027-2DB1F934B1D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37C898-299F-435D-BB18-E7453C68CCF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159CD1-3D4C-4A3D-BC8C-B38AD51BD3D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F50B12-EDE7-4CF4-A0B0-FCFD8F6FE34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607834-64AF-4AD8-889A-C5CB826C966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5696E0-B615-4B3C-BCB9-281B55BCA90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653B36-5B07-4916-88B8-0DA6BC6959E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F8188B-9CE4-4B41-A636-53471F1411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520479-DAA8-4701-B46A-D0EAB1B3D65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CE1CA-3B7A-447D-A507-4B5AA22AA53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45EC8C-041A-47BA-9B30-55FC433DFB3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A71D27-56D3-4E98-B916-27A8F4D3F74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DBB04-FCF6-41CD-A2B4-B3FE134AE6C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4D99EC-16CE-41DE-9930-222462C64DA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00807-BFDF-4DFB-93B4-BFCE76F2EC6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B33183-2692-4BE6-B50B-A7A6323D848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D2252F-3D0C-4350-AD5A-19294EC0EE1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9018FF-96BE-4306-8D0C-2BA91DC97B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5BBA54-3475-41FB-8F2F-4B8AF8DCF54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6E4E2E-19B9-442C-A0ED-4AE8CF160BE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4211D-0A22-40E3-A9A5-7C59ADF4BAC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4A0-EDE7-482B-AF76-746F8083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BE732-B826-4F40-A61D-41F2E60900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627EA-3C52-4F8D-B434-9626ED71F2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C1380-8C84-4406-A4CD-2CC9B2D2D9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B9051-4264-4172-A7AD-B6AE73A724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E1A90-7A70-4787-BDB6-E6ACCE518C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7C2-3C56-4B47-8724-635EC647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B12AE-EA92-4CEA-B70E-C81036A1DB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20737-B372-44BF-A280-ACCBC301FE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58162-4F60-43C7-A1EE-FF2ACBA985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3583A-DE52-4DE6-8C44-541B522495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A9ABE-CA49-4387-A571-CD236D56B9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0F662-C649-4CB3-BCDB-0CCB522D0F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29732-32D8-4DC8-8F30-6145DF2F08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42E63-DEB1-46B1-B104-8FAD6BFA2D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DFBC9-0CFF-48B6-B493-E100A468427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73030-418E-46EE-9679-2F578B9CE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88E-1FFC-4579-9E9C-50DDA916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2C613-2213-49FE-8D76-F0276E5125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6DC23-2E66-423D-B5F4-CBE77087A3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4162B-4930-4A22-B12C-832FA4EB3CB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94E69-D180-459C-9B98-E5DE321B28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561EE-FCE1-4F4A-BC0E-1F8A825DA6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D91B8-A45D-46C2-9943-05F566B0BF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7B56E-9A5E-4099-8DCB-CA14E0676E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0A245-76F6-4921-8CD3-60C5AB7B45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5D1F1-BF02-4A64-99EE-01424D2AA08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9E2C-84E2-49B1-8CD6-CD65E53AA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D55-521F-433F-B7DA-0D9FC738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E940-3C49-4903-A0B8-18F472289D7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E3F9-A32D-458B-A1D7-A3952AED5E0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23AD-9F45-4945-8ABD-C5EA6FC6FBE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E60A-5282-4CDA-905A-E58E52A2F3B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26C5-007B-48E3-85CF-FE51FEA75BF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FB6A-C53E-4721-805F-7BC52BFAA86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CAED-0656-473C-A89A-92F4969D5C4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4FDF-60BA-45D1-9D12-F247AE23D6E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73FB-D247-4FC7-80BC-900C0ED039A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F18F-9B0C-4380-B1C0-A952ACDF6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7DE-E100-490B-BD60-52E0A118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45DB-6831-491D-84E1-550B1005728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0B488B-9BEB-4F76-A551-F175A1E7566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AE29F6-E4EB-4969-84B1-5AB5C9A7C8C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7EDEE8-9E39-4A16-BB99-F0A7D1DC5BD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E6C763-016D-4497-9F0C-DD437337D89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02608D-57A1-4E98-86F3-9FE6086CAF6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F28873-CB40-4796-BCFE-0675D0300EB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7FE6BF-B54F-4CB8-82AF-8D1CC9FF30F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842C02-D9FB-48B4-90AD-12030EAFC62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895306-F2DD-4EE0-A0DA-24ACD6BB6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E4D7-8FFB-4E44-B5A5-706F15C0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B44C27-0691-4B6D-B9AA-53D48715326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07953C-A065-4C9E-A75A-17E1DD0275B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814E2F-35B4-4252-B926-A91CA6F84DD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211BD-EF8D-4224-867C-183E06196FF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A100AD-78B6-487D-A632-BF814F21682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9D011-985D-4CEB-8C73-3485F55CCC6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F5BBA-3E4C-4D6B-8471-C37D4938B0A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EFD2D-F130-4552-9A88-3F94E7ADAC5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FED1AF-6406-419D-9D4A-87C91706793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BB6EC-4BDF-45F2-B508-E5D6CC2B7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98B-0C9A-4E08-9600-E569695E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CDE06-F91A-4D80-B53A-3BA8C824D8E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05B9C-1A5D-4A31-B40A-EFF527E0ECF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C028C-64F7-48AF-9C49-A28CCDEE835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86DCD-2288-4B7C-A0C5-869A9AE3702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92EA0-1113-44F7-9A16-690A44CCC9B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8AE34-9985-49E0-912A-02AB2ADDE9F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68352-D8AE-48CE-B2B2-395F8C9A7DB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D5EA2-1E36-418E-A50F-8147F6BC157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90A52-A559-4201-A35E-BA953409344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B7E6A-EB35-433F-B062-9F2C7FA82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842-9D7A-48EA-A7AD-0B9BB74A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116AC-6EEC-4928-8930-B9B3B8882DB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04757-CC65-447E-A2A8-DB605CE9FB2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04127-10AA-4568-9FCF-CC43DA33669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59F25-8F8D-4237-AC8E-D41368459A2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9B3FC-693B-4744-AF5F-75C15D0B281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7EACD-5C3E-42FB-8F93-E6ABF850812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43999-1294-40A7-B1D1-040D61FD08F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B39D6B-95DB-4F13-8BB5-DED50CECAD8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ECA21D-DAD7-4328-AA63-2A14C1EC44E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7AC30E-0BB3-4044-9EFA-C24D4FBE8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653AC03-5949-4B95-BC6C-F268CA6734F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CA08D54-E804-437D-9911-865D4DE5C3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407297A-2B98-43C6-A4A3-274C9ECAFB7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14345B9-E0CA-4EA7-8FBC-F049E980EB7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A893F11-20A6-4BD7-A1E0-CEC47AB2BB6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7F9C81D-02F6-461C-AFFE-C763E07570E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A3E953C-5913-4D89-B40F-83B8FFA3A7D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EDFADEE-EF09-43FF-B6B8-6FBF7D4CA46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4765865-E789-4917-9893-3C7BAC7D197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D245FA8-9FC5-41DA-8DF5-A4088F62C8B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15CE6AF-DF5D-416E-8DB4-C894D7EFD98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5CCD436-6ED9-402E-8BDD-E875AAD0DE7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FF396AA-9B22-48B6-9118-333D0816677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CEA4657-075B-4969-BE20-B74636F01D5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EB92D11-0D14-4FE0-BF1C-9ED5C632334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B1A629B-9B8F-4ECC-8DBD-9016A9F1D14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sagatavo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0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šu pieteikumu sagatavošana un iesniegšana Espresso sistē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4300560"/>
            <a:ext cx="5829120" cy="666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4.gada 5. septembr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1E6A7B9-ADC9-41C6-A46F-2A0E0F3061A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b050"/>
                </a:solidFill>
                <a:latin typeface="Verdana"/>
                <a:ea typeface="Verdana"/>
              </a:rPr>
              <a:t>Par studiju vizītēm – jaunu projektu veidu Nordplus Jauniešu apakšprogrammā -  atsevišķs seminārs 06.09.24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Box 10"/>
          <p:cNvSpPr/>
          <p:nvPr/>
        </p:nvSpPr>
        <p:spPr>
          <a:xfrm>
            <a:off x="250920" y="3706920"/>
            <a:ext cx="346536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Calibri"/>
              </a:rPr>
              <a:t>https://www.viaa.gov.lv/lv/jaunums/aicinam-pieteikties-tiessaistes-seminaram-par-nordplus-2024-gada-studiju-vizisu-konkursu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4098960" y="2019240"/>
            <a:ext cx="44355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"/>
          <p:cNvPicPr/>
          <p:nvPr/>
        </p:nvPicPr>
        <p:blipFill>
          <a:blip r:embed="rId1"/>
          <a:stretch/>
        </p:blipFill>
        <p:spPr>
          <a:xfrm>
            <a:off x="3179880" y="1238400"/>
            <a:ext cx="5816520" cy="52387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rdplus datubāzē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pliecinājuma vēstules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, kuras jāparaksta visu projektā iesaisīt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61D8AAE-A846-4BD2-BA82-089B8D6A02B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2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3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4" name="Title 1"/>
          <p:cNvSpPr/>
          <p:nvPr/>
        </p:nvSpPr>
        <p:spPr>
          <a:xfrm>
            <a:off x="259092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b7d91"/>
                </a:solidFill>
                <a:latin typeface="Verdana"/>
                <a:ea typeface="Verdana"/>
              </a:rPr>
              <a:t>Projektā iesaistītās organizācijas – koordinators un partne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"/>
          <p:cNvPicPr/>
          <p:nvPr/>
        </p:nvPicPr>
        <p:blipFill>
          <a:blip r:embed="rId1"/>
          <a:stretch/>
        </p:blipFill>
        <p:spPr>
          <a:xfrm>
            <a:off x="4673520" y="3238560"/>
            <a:ext cx="3152880" cy="32036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"/>
          <p:cNvPicPr/>
          <p:nvPr/>
        </p:nvPicPr>
        <p:blipFill>
          <a:blip r:embed="rId2"/>
          <a:stretch/>
        </p:blipFill>
        <p:spPr>
          <a:xfrm>
            <a:off x="3878280" y="-214200"/>
            <a:ext cx="5478480" cy="317160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, ja nav, tad jāpievieno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9" name="Left Arrow 13"/>
          <p:cNvSpPr/>
          <p:nvPr/>
        </p:nvSpPr>
        <p:spPr>
          <a:xfrm rot="16200000">
            <a:off x="5375160" y="2305080"/>
            <a:ext cx="1666800" cy="355320"/>
          </a:xfrm>
          <a:prstGeom prst="leftArrow">
            <a:avLst>
              <a:gd name="adj1" fmla="val 50000"/>
              <a:gd name="adj2" fmla="val 54533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6" descr=""/>
          <p:cNvPicPr/>
          <p:nvPr/>
        </p:nvPicPr>
        <p:blipFill>
          <a:blip r:embed="rId1"/>
          <a:srcRect l="0" t="0" r="4749" b="0"/>
          <a:stretch/>
        </p:blipFill>
        <p:spPr>
          <a:xfrm>
            <a:off x="611280" y="3151080"/>
            <a:ext cx="8172360" cy="253368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59056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Sagatavošanas vizītes apraks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1128600" y="1914480"/>
            <a:ext cx="70423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Rokasgrāmata, 41. lpp (pdf),  sadaļa  «The Application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"/>
          <p:cNvPicPr/>
          <p:nvPr/>
        </p:nvPicPr>
        <p:blipFill>
          <a:blip r:embed="rId1"/>
          <a:srcRect l="0" t="6166" r="0" b="0"/>
          <a:stretch/>
        </p:blipFill>
        <p:spPr>
          <a:xfrm>
            <a:off x="3218040" y="1709640"/>
            <a:ext cx="5759280" cy="4214880"/>
          </a:xfrm>
          <a:prstGeom prst="rect">
            <a:avLst/>
          </a:prstGeom>
          <a:ln w="0">
            <a:noFill/>
          </a:ln>
        </p:spPr>
      </p:pic>
      <p:sp>
        <p:nvSpPr>
          <p:cNvPr id="79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E007F47-CAFF-4D1B-912B-FAF765E6B7A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Īsi jāapraksta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paredzamā  projekta iece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Straight Arrow Connector 12"/>
          <p:cNvCxnSpPr/>
          <p:nvPr/>
        </p:nvCxnSpPr>
        <p:spPr>
          <a:xfrm>
            <a:off x="1958760" y="220932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7" descr=""/>
          <p:cNvPicPr/>
          <p:nvPr/>
        </p:nvPicPr>
        <p:blipFill>
          <a:blip r:embed="rId1"/>
          <a:srcRect l="0" t="6263" r="0" b="0"/>
          <a:stretch/>
        </p:blipFill>
        <p:spPr>
          <a:xfrm>
            <a:off x="3405240" y="933480"/>
            <a:ext cx="4903560" cy="4375080"/>
          </a:xfrm>
          <a:prstGeom prst="rect">
            <a:avLst/>
          </a:prstGeom>
          <a:ln w="0">
            <a:noFill/>
          </a:ln>
        </p:spPr>
      </p:pic>
      <p:sp>
        <p:nvSpPr>
          <p:cNvPr id="798" name="Title 1"/>
          <p:cNvSpPr/>
          <p:nvPr/>
        </p:nvSpPr>
        <p:spPr>
          <a:xfrm>
            <a:off x="0" y="1943280"/>
            <a:ext cx="2849400" cy="32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apraksta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i jābalstās uz projekta pieteikuma plānoša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mērķi, uzdevumi, rezultāti, norise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"/>
          <p:cNvPicPr/>
          <p:nvPr/>
        </p:nvPicPr>
        <p:blipFill>
          <a:blip r:embed="rId1"/>
          <a:srcRect l="0" t="8694" r="0" b="0"/>
          <a:stretch/>
        </p:blipFill>
        <p:spPr>
          <a:xfrm>
            <a:off x="3948120" y="549360"/>
            <a:ext cx="4456080" cy="3079800"/>
          </a:xfrm>
          <a:prstGeom prst="rect">
            <a:avLst/>
          </a:prstGeom>
          <a:ln w="0">
            <a:noFill/>
          </a:ln>
        </p:spPr>
      </p:pic>
      <p:sp>
        <p:nvSpPr>
          <p:cNvPr id="80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1D6CBEB-0E17-4E5A-BC6F-AC85DFFC9C7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9"/>
          <p:cNvCxnSpPr/>
          <p:nvPr/>
        </p:nvCxnSpPr>
        <p:spPr>
          <a:xfrm flipH="1">
            <a:off x="4258800" y="2095200"/>
            <a:ext cx="16560" cy="22658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2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8" descr=""/>
          <p:cNvPicPr/>
          <p:nvPr/>
        </p:nvPicPr>
        <p:blipFill>
          <a:blip r:embed="rId2"/>
          <a:stretch/>
        </p:blipFill>
        <p:spPr>
          <a:xfrm>
            <a:off x="3208320" y="4361040"/>
            <a:ext cx="3828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"/>
          <p:cNvPicPr/>
          <p:nvPr/>
        </p:nvPicPr>
        <p:blipFill>
          <a:blip r:embed="rId1"/>
          <a:srcRect l="0" t="0" r="0" b="76419"/>
          <a:stretch/>
        </p:blipFill>
        <p:spPr>
          <a:xfrm>
            <a:off x="4597560" y="4807080"/>
            <a:ext cx="3828960" cy="720720"/>
          </a:xfrm>
          <a:prstGeom prst="rect">
            <a:avLst/>
          </a:prstGeom>
          <a:ln w="0">
            <a:noFill/>
          </a:ln>
        </p:spPr>
      </p:pic>
      <p:sp>
        <p:nvSpPr>
          <p:cNvPr id="805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itle 1"/>
          <p:cNvSpPr/>
          <p:nvPr/>
        </p:nvSpPr>
        <p:spPr>
          <a:xfrm>
            <a:off x="100080" y="4184640"/>
            <a:ext cx="344808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u apliecinājuma vēstules (tai skaitā arī no savas organizācijas)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7" name="Straight Arrow Connector 6"/>
          <p:cNvCxnSpPr/>
          <p:nvPr/>
        </p:nvCxnSpPr>
        <p:spPr>
          <a:xfrm>
            <a:off x="2827440" y="4327200"/>
            <a:ext cx="1745280" cy="626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8" name="Picture 2" descr=""/>
          <p:cNvPicPr/>
          <p:nvPr/>
        </p:nvPicPr>
        <p:blipFill>
          <a:blip r:embed="rId2"/>
          <a:srcRect l="0" t="15722" r="0" b="0"/>
          <a:stretch/>
        </p:blipFill>
        <p:spPr>
          <a:xfrm>
            <a:off x="2749680" y="2050920"/>
            <a:ext cx="56768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Straight Arrow Connector 8"/>
          <p:cNvCxnSpPr/>
          <p:nvPr/>
        </p:nvCxnSpPr>
        <p:spPr>
          <a:xfrm>
            <a:off x="1714320" y="2827440"/>
            <a:ext cx="1410120" cy="10166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11" name="Straight Arrow Connector 11"/>
          <p:cNvCxnSpPr/>
          <p:nvPr/>
        </p:nvCxnSpPr>
        <p:spPr>
          <a:xfrm>
            <a:off x="2095200" y="502416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12" name="Picture 2" descr=""/>
          <p:cNvPicPr/>
          <p:nvPr/>
        </p:nvPicPr>
        <p:blipFill>
          <a:blip r:embed="rId1"/>
          <a:srcRect l="0" t="9362" r="0" b="0"/>
          <a:stretch/>
        </p:blipFill>
        <p:spPr>
          <a:xfrm>
            <a:off x="3124080" y="2827440"/>
            <a:ext cx="563904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0052B42-5AF3-4BFA-A4CA-835A36C2F21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itle 1"/>
          <p:cNvSpPr/>
          <p:nvPr/>
        </p:nvSpPr>
        <p:spPr>
          <a:xfrm>
            <a:off x="0" y="1943280"/>
            <a:ext cx="2332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tiks pārskaitīts piešķirtais finansējum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Pie bankas rekvizītiem – «Your reference» ir organizācijas iekšējais identifikators (ja tāds ir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  <p:cxnSp>
        <p:nvCxnSpPr>
          <p:cNvPr id="816" name="Straight Arrow Connector 2"/>
          <p:cNvCxnSpPr/>
          <p:nvPr/>
        </p:nvCxnSpPr>
        <p:spPr>
          <a:xfrm>
            <a:off x="2158560" y="4808160"/>
            <a:ext cx="5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Nordic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itle 1"/>
          <p:cNvSpPr/>
          <p:nvPr/>
        </p:nvSpPr>
        <p:spPr>
          <a:xfrm>
            <a:off x="106200" y="2120760"/>
            <a:ext cx="247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Picture 2" descr=""/>
          <p:cNvPicPr/>
          <p:nvPr/>
        </p:nvPicPr>
        <p:blipFill>
          <a:blip r:embed="rId1"/>
          <a:stretch/>
        </p:blipFill>
        <p:spPr>
          <a:xfrm>
            <a:off x="2789280" y="1290600"/>
            <a:ext cx="60451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VIAA sagatavotajiem materiāliem ir </a:t>
            </a:r>
            <a:r>
              <a:rPr b="1" lang="lv-LV" sz="2000" spc="-1" strike="noStrike" u="sng">
                <a:solidFill>
                  <a:srgbClr val="ff0000"/>
                </a:solidFill>
                <a:uFillTx/>
                <a:latin typeface="Calibri"/>
                <a:ea typeface="Verdana"/>
              </a:rPr>
              <a:t>informatīvs un paskaidrojošs raksturs</a:t>
            </a: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cējiem ir saistoši dokumenti, kas publicēti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www.nordplusonlin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Content Placeholder 1" descr=""/>
          <p:cNvPicPr/>
          <p:nvPr/>
        </p:nvPicPr>
        <p:blipFill>
          <a:blip r:embed="rId1"/>
          <a:stretch/>
        </p:blipFill>
        <p:spPr>
          <a:xfrm>
            <a:off x="2901960" y="1695600"/>
            <a:ext cx="5907240" cy="40719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" descr=""/>
          <p:cNvPicPr/>
          <p:nvPr/>
        </p:nvPicPr>
        <p:blipFill>
          <a:blip r:embed="rId2"/>
          <a:stretch/>
        </p:blipFill>
        <p:spPr>
          <a:xfrm>
            <a:off x="5924520" y="3772080"/>
            <a:ext cx="3156120" cy="957240"/>
          </a:xfrm>
          <a:prstGeom prst="rect">
            <a:avLst/>
          </a:prstGeom>
          <a:ln w="0">
            <a:noFill/>
          </a:ln>
        </p:spPr>
      </p:pic>
      <p:sp>
        <p:nvSpPr>
          <p:cNvPr id="749" name="Title 1"/>
          <p:cNvSpPr/>
          <p:nvPr/>
        </p:nvSpPr>
        <p:spPr>
          <a:xfrm>
            <a:off x="-165240" y="2860560"/>
            <a:ext cx="30164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1828800" y="1252440"/>
            <a:ext cx="722304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diku.no/espresso/login?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rcRect l="0" t="26520" r="0" b="0"/>
          <a:stretch/>
        </p:blipFill>
        <p:spPr>
          <a:xfrm>
            <a:off x="2490840" y="3040200"/>
            <a:ext cx="5838840" cy="2436840"/>
          </a:xfrm>
          <a:prstGeom prst="rect">
            <a:avLst/>
          </a:prstGeom>
          <a:ln w="0">
            <a:noFill/>
          </a:ln>
        </p:spPr>
      </p:pic>
      <p:sp>
        <p:nvSpPr>
          <p:cNvPr id="753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393560"/>
            <a:ext cx="6870600" cy="74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>
                <a:solidFill>
                  <a:srgbClr val="1f4e79"/>
                </a:solidFill>
                <a:latin typeface="Calibri"/>
                <a:ea typeface="Verdana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1" descr=""/>
          <p:cNvPicPr/>
          <p:nvPr/>
        </p:nvPicPr>
        <p:blipFill>
          <a:blip r:embed="rId1"/>
          <a:srcRect l="0" t="24891" r="0" b="0"/>
          <a:stretch/>
        </p:blipFill>
        <p:spPr>
          <a:xfrm>
            <a:off x="4025880" y="4721400"/>
            <a:ext cx="4660920" cy="20412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"/>
          <p:cNvPicPr/>
          <p:nvPr/>
        </p:nvPicPr>
        <p:blipFill>
          <a:blip r:embed="rId2"/>
          <a:stretch/>
        </p:blipFill>
        <p:spPr>
          <a:xfrm>
            <a:off x="2660760" y="2238480"/>
            <a:ext cx="4916520" cy="2036520"/>
          </a:xfrm>
          <a:prstGeom prst="rect">
            <a:avLst/>
          </a:prstGeom>
          <a:ln w="0">
            <a:noFill/>
          </a:ln>
        </p:spPr>
      </p:pic>
      <p:cxnSp>
        <p:nvCxnSpPr>
          <p:cNvPr id="758" name="Straight Arrow Connector 4"/>
          <p:cNvCxnSpPr/>
          <p:nvPr/>
        </p:nvCxnSpPr>
        <p:spPr>
          <a:xfrm>
            <a:off x="5638320" y="3633840"/>
            <a:ext cx="1080" cy="12708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267440"/>
          </a:xfrm>
          <a:prstGeom prst="rect">
            <a:avLst/>
          </a:prstGeom>
          <a:ln w="0">
            <a:noFill/>
          </a:ln>
        </p:spPr>
      </p:pic>
      <p:sp>
        <p:nvSpPr>
          <p:cNvPr id="761" name="Left Arrow 6"/>
          <p:cNvSpPr/>
          <p:nvPr/>
        </p:nvSpPr>
        <p:spPr>
          <a:xfrm rot="8365800">
            <a:off x="2230200" y="5498640"/>
            <a:ext cx="3019320" cy="530280"/>
          </a:xfrm>
          <a:prstGeom prst="leftArrow">
            <a:avLst>
              <a:gd name="adj1" fmla="val 50000"/>
              <a:gd name="adj2" fmla="val 5443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091960" y="415440"/>
            <a:ext cx="6095880" cy="776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zvēlamies apakšprogrammu, kurā iesniegsim sagatavošanas vizītes pieteikum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2" descr=""/>
          <p:cNvPicPr/>
          <p:nvPr/>
        </p:nvPicPr>
        <p:blipFill>
          <a:blip r:embed="rId2"/>
          <a:stretch/>
        </p:blipFill>
        <p:spPr>
          <a:xfrm>
            <a:off x="1541520" y="1824120"/>
            <a:ext cx="719784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DCFFC43-7AF6-49E6-ADB7-45105D35D23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590920" cy="22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2478240" y="426960"/>
            <a:ext cx="6183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86426BF-84FA-4A23-AB97-517BA809D79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801880" cy="14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 – šajā gadījumā 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i («Preparatory visit») 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7" descr="A screenshot of a computer&#10;&#10;Description automatically generated"/>
          <p:cNvPicPr/>
          <p:nvPr/>
        </p:nvPicPr>
        <p:blipFill>
          <a:blip r:embed="rId1"/>
          <a:srcRect l="8189" t="15003" r="56997" b="25478"/>
          <a:stretch/>
        </p:blipFill>
        <p:spPr>
          <a:xfrm>
            <a:off x="3143160" y="228600"/>
            <a:ext cx="5391360" cy="5761080"/>
          </a:xfrm>
          <a:prstGeom prst="rect">
            <a:avLst/>
          </a:prstGeom>
          <a:ln w="0">
            <a:noFill/>
          </a:ln>
        </p:spPr>
      </p:pic>
      <p:cxnSp>
        <p:nvCxnSpPr>
          <p:cNvPr id="771" name="Straight Arrow Connector 9"/>
          <p:cNvCxnSpPr/>
          <p:nvPr/>
        </p:nvCxnSpPr>
        <p:spPr>
          <a:xfrm>
            <a:off x="2090520" y="3230640"/>
            <a:ext cx="1532520" cy="169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72" name="Title 1"/>
          <p:cNvSpPr/>
          <p:nvPr/>
        </p:nvSpPr>
        <p:spPr>
          <a:xfrm>
            <a:off x="54000" y="4772160"/>
            <a:ext cx="20368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Studiju vizīte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r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cits projektu veids (seminārs 06.09.24.)</a:t>
            </a: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Straight Arrow Connector 12"/>
          <p:cNvCxnSpPr/>
          <p:nvPr/>
        </p:nvCxnSpPr>
        <p:spPr>
          <a:xfrm>
            <a:off x="1662120" y="5106600"/>
            <a:ext cx="1961280" cy="83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23-09-06T10:38:28Z</cp:lastPrinted>
  <dcterms:modified xsi:type="dcterms:W3CDTF">2024-09-05T13:12:12Z</dcterms:modified>
  <cp:revision>179</cp:revision>
  <dc:subject/>
  <dc:title>PowerPoint Presentation</dc:title>
</cp:coreProperties>
</file>